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8AFC-E884-430C-88D1-A41652F8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AFE-2CED-44A4-9142-6708A90F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task cards (Option A and Option B - shopping for fruit ju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blank PPQ templates needed here – double-sided would be be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F8D9-49D5-4891-ADC0-102DBBA77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FC1-C4CA-4071-AB9B-BB576A0A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765-5986-4B87-AE15-6ECA37FC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E22-4A16-4759-809B-98AE6507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4B7-63DA-449C-87A3-06E51CA1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D764-4A23-4D60-927C-2AE512FF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B743-BF93-4C68-88B3-AA5EAA5F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A29A-6F3B-4D36-ADF1-D4240044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E455-2707-4CC1-9185-8927344F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1DC0-5604-43B0-9F24-9C885547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31C8-EA91-4A84-89A3-525C08D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32DD-6E5C-41B4-9F98-508194CF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D77-CC0C-4F32-87DD-EC1DA146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4840-DE22-4C51-BBC8-F827B241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8D03-8698-44DC-9BD4-FD590A7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95F1-956F-4CE9-B008-22A8AF48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6892-1242-4AF3-ADBA-DF1FA4DC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0DA3-9F0B-4BE8-96AD-A20A399F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D1A-C74B-48CA-887A-23394A06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7C4-F89F-4DF1-984A-CD60A52D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108-79B2-411F-85C4-A82E2525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9CA-252E-49D1-BE76-49D79A9F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EDE-C44C-46A4-86C3-7298011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412-FBA3-4F46-9B30-FFCE489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E4E-0174-4358-A976-42E4D5AB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4FEE-D4E6-4BDE-A285-CD4C47E3869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CAC9-D227-4844-9092-00AFCD45C16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Arial"/>
              </a:rPr>
              <a:t>Grades 7/8 Breakout Session 3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Enjoy a wonderful lunch </a:t>
            </a:r>
            <a:r>
              <a:rPr b="0" lang="en-US" sz="4800" spc="-1" strike="noStrike">
                <a:solidFill>
                  <a:srgbClr val="0d469b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ontinue to develop our math talk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deepen understanding of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solve parallel tasks related to r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identify a Big Idea and lesson goal for the tasks 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a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You will be representing the solution to the task you choose in two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two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either Option A or Option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rtner at another table who chose the same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a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your new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task you chose in two different ways (we would encourage you to try a concrete representation as one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mmon Debriefing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what two different ways did you represent the problem/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store has the better deal? How did you deci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sing Powerful Questions templat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urriculum expectation, a Big Idea, and a lesson goal for the “100% fruit juice” paralle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lving Another Paralle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the same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ad the two parallel tasks and choose one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the problem/solution in two different ways (try to use at least one representation you did not use for the first ta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alyzing th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sing Powerful Questions templat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urriculum expectation, a Big Idea, and a lesson goal for the “pizza per camper”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ways do these parallel tasks support varying student readiness lev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Michelle Lang</cp:lastModifiedBy>
  <dcterms:modified xsi:type="dcterms:W3CDTF">2010-08-16T01:32:48Z</dcterms:modified>
  <cp:revision>178</cp:revision>
  <dc:subject/>
  <dc:title>Slide 1</dc:title>
</cp:coreProperties>
</file>